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347-BDA8-4197-8FBE-FDFD9DD1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6A9-C6E0-4DF1-A2ED-59C95B61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762-E883-4A66-BDC7-12FF54F2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B35-2B2C-4CA5-A523-A3B63885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051FA-8A52-4E72-9917-1A3C5E50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0BD7D-6CD2-4474-B4D7-CC02C2E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4233D-FE03-494C-8313-38952030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58C64-DD36-4ACC-81D3-047769A5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7229C-73C4-4592-BE10-8D1767F8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892CC-5B4C-400E-8612-7351720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FE5F3-53FC-4D09-9A5F-80D00F9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0BD-98A3-4B62-ABA5-AE53BF6B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8502F-EA22-4C9A-83A8-81D5E4B4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E784C-A477-45D8-A746-9DDA6B3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DD4FC-D2B0-4C11-B768-89FE761B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3ACBD-4B6B-4D4F-A38B-D3E67FA6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4CA7F-B273-4230-8150-8F685A20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1EC-96E5-4D9B-BCDC-1FFC37A5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E62-1A77-47C0-94DC-5A0D2365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FD7-E4C9-4782-BD2D-0B98B87D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C4F-DB20-43ED-A3BC-9CA469D9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BC0-ABDA-4FD8-A065-A67CE52D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8E2-F53D-4A94-BCC1-AC7F3400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482-A898-4C89-BCFA-E56077D2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9F8F-D9D7-4322-ABC4-8D4D82700C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B46B-84B2-40A3-9D31-B6BAE2902C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aa99"/>
                </a:solidFill>
                <a:latin typeface="Arial"/>
              </a:rPr>
              <a:t>Дрожь земли</a:t>
            </a:r>
            <a:endParaRPr b="0" lang="en-US" sz="6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aa99"/>
                </a:solidFill>
                <a:latin typeface="Arial"/>
              </a:rPr>
              <a:t>и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aa99"/>
                </a:solidFill>
                <a:latin typeface="Arial Narrow"/>
              </a:rPr>
              <a:t>Землетряс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Подтемы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Землетрясение как стихийное бедств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Виды землетряс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Прибор для регистрации землетрясений и принцип рабо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Прогноз землетряс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Правила безопасного по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Последствия землетряс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ся земля сотрясла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уч метнулась гря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трясенье земли унесло город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се оковы небес разомкнуться смог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вел разгул сотрясенья суставы                                 земл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жал он бедную землю в такие тис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то огромные скалы разбил на кус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з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vul2"/>
          <p:cNvPicPr/>
          <p:nvPr/>
        </p:nvPicPr>
        <p:blipFill>
          <a:blip r:embed="rId1"/>
          <a:stretch/>
        </p:blipFill>
        <p:spPr>
          <a:xfrm>
            <a:off x="539640" y="1484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vul3"/>
          <p:cNvPicPr/>
          <p:nvPr/>
        </p:nvPicPr>
        <p:blipFill>
          <a:blip r:embed="rId2"/>
          <a:stretch/>
        </p:blipFill>
        <p:spPr>
          <a:xfrm>
            <a:off x="539640" y="3716280"/>
            <a:ext cx="30956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Землетрясения-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ет бедствия, от которого нельзя было бы спастись. А зло распространяется необычайно широко, от него не убежишь, оно ненасытно, оно является общественным бедств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енека(4 г. до н. э.- 65 г. н. э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олебания и смещения земной поверхности, подземные толчки и удары, возникающие в результате естественных процессов или деятель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a99"/>
                </a:solidFill>
                <a:latin typeface="Arial"/>
              </a:rPr>
              <a:t>Классификация землетрясений: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ктоническ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улканическ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ва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етряс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никающие в результате ударов космических тел о зем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edff"/>
                </a:solidFill>
                <a:latin typeface="Arial"/>
              </a:rPr>
              <a:t>Очаг землетрясения - точка под землей, которая является источником землетрясения (гипоцентр). Прямо над гипоцентром на поверхности земли находится эпицентр землетрясения.</a:t>
            </a:r>
            <a:endParaRPr b="0" lang="en-US" sz="2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2052720"/>
            <a:ext cx="86518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84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роисхождение землетрясений.</a:t>
            </a:r>
            <a:br>
              <a:rPr sz="3200"/>
            </a:br>
            <a:r>
              <a:rPr b="0" lang="en-US" sz="3200" spc="-1" strike="noStrike">
                <a:solidFill>
                  <a:srgbClr val="b3ed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b3edff"/>
                </a:solidFill>
                <a:latin typeface="Arial"/>
              </a:rPr>
              <a:t>Движение тектонических плит- основная причина                          землетрясений.</a:t>
            </a: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8424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обнаружения и регистрации сейсмических волн используются специальные приборы - сейсмографы. Ежедневно сейсмографы регистрируют на Земле более тысячи землетрясений.</a:t>
            </a:r>
            <a:br>
              <a:rPr sz="2000"/>
            </a:br>
            <a:endParaRPr b="0" lang="en-US" sz="2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Поражающие факторы землетрясений: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Наиболее безопасные места в здании: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12-бальная международная сейсмическая шкала. </a:t>
            </a:r>
            <a:br>
              <a:rPr sz="2400"/>
            </a:b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(Шкала Рихтера).</a:t>
            </a:r>
            <a:br>
              <a:rPr sz="4400"/>
            </a:br>
            <a:endParaRPr b="0" lang="en-US" sz="2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лабые - 1-3 ба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Умеренные - 4 ба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Довольно сильные – 5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ильные – 6-7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Разрушительные - 8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Опустошительные – 9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Уничтожающие – 10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Катастрофические – 11-12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edff"/>
                </a:solidFill>
                <a:latin typeface="Arial"/>
              </a:rPr>
              <a:t>Урок для 6 класса.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11111"/>
                </a:solidFill>
                <a:latin typeface="Arial"/>
              </a:rPr>
              <a:t>Землетрясение.</a:t>
            </a: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Автор: Ларина Елена Владимировн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4 курс, филологический факульт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Сыктывкар 201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9900"/>
                </a:solidFill>
                <a:latin typeface="Arial"/>
              </a:rPr>
              <a:t>Правила безопасного поведения </a:t>
            </a:r>
            <a:br>
              <a:rPr sz="3200"/>
            </a:br>
            <a:r>
              <a:rPr b="1" i="1" lang="en-US" sz="3200" spc="-1" strike="noStrike">
                <a:solidFill>
                  <a:srgbClr val="cc9900"/>
                </a:solidFill>
                <a:latin typeface="Arial"/>
              </a:rPr>
              <a:t>во время землетрясения:</a:t>
            </a:r>
            <a:br>
              <a:rPr sz="3200"/>
            </a:b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ри первом толчке постараться немедленно покинуть здание в течение 15-2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пускаться  только по лестнице, оповещая соседей о необходимости покинуть з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Если остались в квартире, необходимо встать в дверной проем или в углу комнаты, подальше от окон, светильников, шкафов и зерк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е допускать возникновения па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Если землетрясение застигло вас в машине, нужно немедленно остановиться и не выходить из машины до окончания толч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ик ОБЖ 7 класс (под ред. Воробьев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ография 6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Данная презентация нацелена на подробное изучение землетрясения как стихийного бед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В презентации рассмотрены следующие темы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Землетрясение как стихийное бед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Виды землетрясен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Прибор для регистрации землетрясений и принцип раб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Прогноз землетряс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Правила безопасного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Последствия землетрясений.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По окончании изучения данной темы учащимся даются задания по закреплению знаний и навыков в различных форм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Предметные области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Географ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ОБ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edff"/>
                </a:solidFill>
                <a:latin typeface="Arial"/>
              </a:rPr>
              <a:t>Основополагающий вопрос: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то такое стихийное бедстви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Проблемные вопросы: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Что такое землетряс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Что такое очаг, эпицентр землетряс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Как устроен сейсмограф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Что такое шкала Рихте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Причины землетряс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Прогноз землетряс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Правила безопасного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Наиболее безопасные ме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Действия после землетряс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Представление результатов исследования: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Бук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Стенгаз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Соч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Докла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Творческая презентация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Продолжительность проекта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 нед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 уроков по 40 мину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edff"/>
                </a:solidFill>
                <a:latin typeface="Arial"/>
              </a:rPr>
              <a:t>Этапы проведения проекта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ыбор и формулировка тем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иск информ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амостоятельная работа учащих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щита проек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Методические задачи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Изучить причины возникновения землетрясений и их последствия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Показать необходимые меры защиты при землетряс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Рассмотреть прибор для регистрации землетрясений и принцип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Формирование психологической готовности учащихся к действиям в условиях Ч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13:01Z</dcterms:created>
  <dc:creator>Customer</dc:creator>
  <dc:description/>
  <dc:language>en-US</dc:language>
  <cp:lastModifiedBy>Customer</cp:lastModifiedBy>
  <dcterms:modified xsi:type="dcterms:W3CDTF">2010-04-13T18:45:26Z</dcterms:modified>
  <cp:revision>14</cp:revision>
  <dc:subject/>
  <dc:title>Дрожь земли</dc:title>
</cp:coreProperties>
</file>